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7FB-BFDC-4DDF-906A-FBEE1E7D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733-558C-4A7A-8B3F-6342B637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8D2-E8C0-4439-B6A6-9E9F227D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5F7-CB28-4409-9FD6-18DA04E6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4FF1-2C08-4A81-A890-17122BCA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A7FB-EA69-4908-8505-8239EB8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CA4-3C27-4238-A0E3-F31603F5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C503-8FB4-44A0-A066-6B92421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45C-19C2-4D5F-B43F-83C541E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BD2-B058-40FF-AC61-141BCF4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3EA4-41AC-473E-8EC6-D9AF7A8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77C-6F28-490E-984C-F51B89AA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4DBF-D8CD-4666-AF9C-EEA365F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80F0-8EDF-41F5-8874-B02FF35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7B89-5466-4988-865E-FAC03FD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154-56A5-43DB-BEF4-CA74520E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F114-7874-4838-852F-72E74CC8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CB9-3323-48A8-BAAB-AE13738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F5B-5F06-4DDD-BB8D-4EE043AD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ED8-4BFB-4A96-8A74-6E9C4312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DF5-B441-45C2-9A7A-CC85CC34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0A3-28FA-44F8-B184-BE7EAEA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566-D82A-4C22-A1AE-F698559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539-9AEF-4077-A53F-67082B5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26c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26c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407-8009-4929-B640-1D835B0357B5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59b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26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26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450-7384-4D0E-890D-AC1970287875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Jour d’un Hérisson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P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Brenna Abbot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Sarah S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fait la vaissel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lave-vaisselle est brisé maintenant! Pierre faut faire la vaisselle dans l’év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http://hararie-japan-tokyo-tokyo.com/japanese_alphabet/2010/06/21/Clearing-off-the-table-and-doing-the-dishes.gif"/>
          <p:cNvPicPr/>
          <p:nvPr/>
        </p:nvPicPr>
        <p:blipFill>
          <a:blip r:embed="rId1"/>
          <a:stretch/>
        </p:blipFill>
        <p:spPr>
          <a:xfrm>
            <a:off x="6477120" y="2905200"/>
            <a:ext cx="2666880" cy="395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img0.etsystatic.com/il_170x135.91020824.jpg"/>
          <p:cNvPicPr/>
          <p:nvPr/>
        </p:nvPicPr>
        <p:blipFill>
          <a:blip r:embed="rId2"/>
          <a:stretch/>
        </p:blipFill>
        <p:spPr>
          <a:xfrm>
            <a:off x="7621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lave les dents.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 dents sont très blanc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http://teethwhitens.com/wp-content/uploads/2011/10/tooth-brush1.png"/>
          <p:cNvPicPr/>
          <p:nvPr/>
        </p:nvPicPr>
        <p:blipFill>
          <a:blip r:embed="rId1"/>
          <a:stretch/>
        </p:blipFill>
        <p:spPr>
          <a:xfrm>
            <a:off x="762120" y="5205240"/>
            <a:ext cx="3429000" cy="1652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t2.gstatic.com/images?q=tbn:ANd9GcQqUb1ft8jRft373jyNRURcCz3QZfrxXuZD2WSRztBERdR1csLj4A"/>
          <p:cNvPicPr/>
          <p:nvPr/>
        </p:nvPicPr>
        <p:blipFill>
          <a:blip r:embed="rId2"/>
          <a:stretch/>
        </p:blipFill>
        <p:spPr>
          <a:xfrm>
            <a:off x="4584600" y="2949480"/>
            <a:ext cx="4559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brosse les cheveux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très beau, n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3360" y="-82548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http://www.evanmorris.com/weblog/hedgehogSOLENT2708_468x298.jpg"/>
          <p:cNvPicPr/>
          <p:nvPr/>
        </p:nvPicPr>
        <p:blipFill>
          <a:blip r:embed="rId1"/>
          <a:stretch/>
        </p:blipFill>
        <p:spPr>
          <a:xfrm>
            <a:off x="4686480" y="3200400"/>
            <a:ext cx="4457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regarde la télévision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met la télé. Alors, il change de ch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îne. L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mission est son favorit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ttp://www.awf.org/files/3904_file_hedgehog1.jpg"/>
          <p:cNvPicPr/>
          <p:nvPr/>
        </p:nvPicPr>
        <p:blipFill>
          <a:blip r:embed="rId1"/>
          <a:stretch/>
        </p:blipFill>
        <p:spPr>
          <a:xfrm>
            <a:off x="5268960" y="272268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www.rounds.com/blog/wp-content/uploads/2010/08/6-rounds-tv.png"/>
          <p:cNvPicPr/>
          <p:nvPr/>
        </p:nvPicPr>
        <p:blipFill>
          <a:blip r:embed="rId2"/>
          <a:stretch/>
        </p:blipFill>
        <p:spPr>
          <a:xfrm>
            <a:off x="1981080" y="3768840"/>
            <a:ext cx="280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met les chausseures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chausseures sont rogu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http://static.gamesradar.com/images/mb/GamesRadar/us/Daily/2010/11-Nov/11/Hedgehog%20shoes/hedgehog_in_shoes--article_image.jpg"/>
          <p:cNvPicPr/>
          <p:nvPr/>
        </p:nvPicPr>
        <p:blipFill>
          <a:blip r:embed="rId1"/>
          <a:stretch/>
        </p:blipFill>
        <p:spPr>
          <a:xfrm>
            <a:off x="3238560" y="3390840"/>
            <a:ext cx="5905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ne fait pas les devoirs!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t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ès mauvais au françai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http://www.mohonasen.org/pw/teacher/kkelts/mytemplates/school_homework.gif"/>
          <p:cNvPicPr/>
          <p:nvPr/>
        </p:nvPicPr>
        <p:blipFill>
          <a:blip r:embed="rId1"/>
          <a:stretch/>
        </p:blipFill>
        <p:spPr>
          <a:xfrm>
            <a:off x="4968720" y="2046240"/>
            <a:ext cx="4152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ort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en retard! Il dépeche quand il s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8" descr="http://www.officeclipart.com/office_clipart_images/worker_running_late_for_the_office_0521-1012-0921-2451_SMU.jpg"/>
          <p:cNvPicPr/>
          <p:nvPr/>
        </p:nvPicPr>
        <p:blipFill>
          <a:blip r:embed="rId1"/>
          <a:stretch/>
        </p:blipFill>
        <p:spPr>
          <a:xfrm>
            <a:off x="762120" y="4859280"/>
            <a:ext cx="1904760" cy="199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files.vector-images.com/clipart/watch_prg1.gif"/>
          <p:cNvPicPr/>
          <p:nvPr/>
        </p:nvPicPr>
        <p:blipFill>
          <a:blip r:embed="rId2"/>
          <a:stretch/>
        </p:blipFill>
        <p:spPr>
          <a:xfrm>
            <a:off x="7620120" y="304920"/>
            <a:ext cx="1371600" cy="1428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hedgehogsbyvickie.com/images/NewColorsPage/SnowflakeHedgehog.jpg"/>
          <p:cNvPicPr/>
          <p:nvPr/>
        </p:nvPicPr>
        <p:blipFill>
          <a:blip r:embed="rId3"/>
          <a:stretch/>
        </p:blipFill>
        <p:spPr>
          <a:xfrm>
            <a:off x="4683240" y="3200400"/>
            <a:ext cx="3600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réveil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i Pierre. Il est un hérrison. Aujourd’hui, il faut aller à l’école. Mais il se réveille tar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hedgehog_baby_with_mother-600x400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sleeping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lev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regarde la fois, et il se leve tout de su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cute-baby-animals---zombie-hedgehog-wants-mealworrrms__"/>
          <p:cNvPicPr/>
          <p:nvPr/>
        </p:nvPicPr>
        <p:blipFill>
          <a:blip r:embed="rId1"/>
          <a:stretch/>
        </p:blipFill>
        <p:spPr>
          <a:xfrm>
            <a:off x="4422600" y="2895480"/>
            <a:ext cx="4721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prend un bain.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est nessacaire prendre un bain avant aller à l’école. Pierre vont dans le b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hedgehog-bath_004_1"/>
          <p:cNvPicPr/>
          <p:nvPr/>
        </p:nvPicPr>
        <p:blipFill>
          <a:blip r:embed="rId1"/>
          <a:stretch/>
        </p:blipFill>
        <p:spPr>
          <a:xfrm>
            <a:off x="5105520" y="3200400"/>
            <a:ext cx="3657600" cy="279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balled_hedgehog"/>
          <p:cNvPicPr/>
          <p:nvPr/>
        </p:nvPicPr>
        <p:blipFill>
          <a:blip r:embed="rId2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’habil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ne sait pas quoi mettr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tte chemise et ce chapeau sont très beaux!” Pierre d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hedgehog_elvis_sombrero_mexican1"/>
          <p:cNvPicPr/>
          <p:nvPr/>
        </p:nvPicPr>
        <p:blipFill>
          <a:blip r:embed="rId1"/>
          <a:stretch/>
        </p:blipFill>
        <p:spPr>
          <a:xfrm>
            <a:off x="4267080" y="2747880"/>
            <a:ext cx="48769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a fait son petit déjeuner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faut faire son petit déjeuner. Des gauffres sont très delicieux. Miam miam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A-Hedgehog-at-Home"/>
          <p:cNvPicPr/>
          <p:nvPr/>
        </p:nvPicPr>
        <p:blipFill>
          <a:blip r:embed="rId1"/>
          <a:stretch/>
        </p:blipFill>
        <p:spPr>
          <a:xfrm>
            <a:off x="5273640" y="2362320"/>
            <a:ext cx="2739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met la tab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serviettes, des assiettes, des couverts, et des verres sont sur la tab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Content Placeholder 1" descr=""/>
          <p:cNvPicPr/>
          <p:nvPr/>
        </p:nvPicPr>
        <p:blipFill>
          <a:blip r:embed="rId1"/>
          <a:stretch/>
        </p:blipFill>
        <p:spPr>
          <a:xfrm>
            <a:off x="4756320" y="2809800"/>
            <a:ext cx="3774960" cy="28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ttp://www.ecokitchen.com/shop/images/grapeleafnapkingrings.jpg"/>
          <p:cNvPicPr/>
          <p:nvPr/>
        </p:nvPicPr>
        <p:blipFill>
          <a:blip r:embed="rId2"/>
          <a:stretch/>
        </p:blipFill>
        <p:spPr>
          <a:xfrm>
            <a:off x="6477120" y="3808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prend son petit déjeuner.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veux manger maintenant! Il a faim beauc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hedgehog3"/>
          <p:cNvPicPr/>
          <p:nvPr/>
        </p:nvPicPr>
        <p:blipFill>
          <a:blip r:embed="rId1"/>
          <a:stretch/>
        </p:blipFill>
        <p:spPr>
          <a:xfrm>
            <a:off x="6019920" y="3247920"/>
            <a:ext cx="3124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débrasse la tab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lave-vaisselle est plein. Toute la vaisselle est dans le lave-vaissel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http://whisper.net-genie.co.uk/siteimage/scale/0/0/89635.gif"/>
          <p:cNvPicPr/>
          <p:nvPr/>
        </p:nvPicPr>
        <p:blipFill>
          <a:blip r:embed="rId1"/>
          <a:stretch/>
        </p:blipFill>
        <p:spPr>
          <a:xfrm>
            <a:off x="5181480" y="2514600"/>
            <a:ext cx="3086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8:39:34Z</dcterms:created>
  <dc:creator>slatersar</dc:creator>
  <dc:description/>
  <dc:language>en-US</dc:language>
  <cp:lastModifiedBy>Brenna</cp:lastModifiedBy>
  <dcterms:modified xsi:type="dcterms:W3CDTF">2012-03-12T00:44:23Z</dcterms:modified>
  <cp:revision>7</cp:revision>
  <dc:subject/>
  <dc:title>Le Jour d’un Hérisson </dc:title>
</cp:coreProperties>
</file>